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C5D-62CE-4033-BBF9-7B414D7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495-5A56-4DF8-A9C7-8FCAFA5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1C-961B-4BC1-B4C5-2297A8DC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567-68B2-475F-881B-E94BF3E7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6FB-8AA5-4133-81B4-78806ABD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C9F-C267-4559-A303-8FA447B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941-8D9F-462C-852C-040C117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B28-7A94-42DC-A684-B659CC23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66F-8334-4D2C-9061-B22ECA1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E32-E19E-4D2B-A30F-6AD757C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831-92BA-427E-A2E1-4EBD3D7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C3F-D297-4742-805E-376B209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C1A-9A7B-44B7-8346-12BA4DF97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90512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 Exam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76212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69795"/>
          <a:stretch/>
        </p:blipFill>
        <p:spPr>
          <a:xfrm>
            <a:off x="533520" y="838080"/>
            <a:ext cx="792468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6629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609480" y="11430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8138" r="0" b="57290"/>
          <a:stretch/>
        </p:blipFill>
        <p:spPr>
          <a:xfrm>
            <a:off x="609480" y="20574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16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914400" y="16765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2719" r="0" b="43743"/>
          <a:stretch/>
        </p:blipFill>
        <p:spPr>
          <a:xfrm>
            <a:off x="914400" y="25146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010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87505"/>
          <a:stretch/>
        </p:blipFill>
        <p:spPr>
          <a:xfrm>
            <a:off x="685800" y="144792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267" r="0" b="27067"/>
          <a:stretch/>
        </p:blipFill>
        <p:spPr>
          <a:xfrm>
            <a:off x="685800" y="23623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010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380880" y="838080"/>
            <a:ext cx="830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840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90"/>
          <a:stretch/>
        </p:blipFill>
        <p:spPr>
          <a:xfrm>
            <a:off x="5335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3759"/>
          <a:stretch/>
        </p:blipFill>
        <p:spPr>
          <a:xfrm>
            <a:off x="9907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862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03:35Z</dcterms:created>
  <dc:creator>david g. kleinbaum</dc:creator>
  <dc:description/>
  <dc:language>en-US</dc:language>
  <cp:lastModifiedBy>dkleinb</cp:lastModifiedBy>
  <dcterms:modified xsi:type="dcterms:W3CDTF">2003-11-18T15:21:44Z</dcterms:modified>
  <cp:revision>19</cp:revision>
  <dc:subject/>
  <dc:title> Confounding Involving Several Risk Factors</dc:title>
</cp:coreProperties>
</file>